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2C6-3E97-4AE2-97DE-C7B866CE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444-66AE-4896-814D-6B397D2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06A-872A-4491-B43A-75BC6ECB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B04-25A3-4833-93E4-64C43959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FD4-4F1E-448A-9B08-194C6F5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17D-226C-4D87-95FF-14A4C66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ED8-DC36-4FBD-AA77-0AC536B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086-AF2D-406A-BA83-4C77ADC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9A2-35AC-4A73-BCDC-93E1103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A91-5C0C-48FC-AFE2-70EF89B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34E-1D23-4A09-8668-4FA39084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37C-396E-453C-884F-6ED879F8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1440" y="6383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59CEFFEE-5218-42C5-8424-2989219C2AA6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 27-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 :C:\polo\communication\réunions\comité de pilotage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1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7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14A620FB-8A3A-4D41-9AE0-1770EC1BF5A7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2A3-FD8B-4D7C-BF25-EC0CBF241D12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5 juin au 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Henri, Philippe, Kar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hases du projet à examiner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lace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roduction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É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blèm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sponibilité de Christop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Faire faire la comm. par le C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Intégrer un nouveau responsable de la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44:49Z</dcterms:modified>
  <cp:revision>16</cp:revision>
  <dc:subject>O3-MODELES</dc:subject>
  <dc:title>Rapport flash </dc:title>
</cp:coreProperties>
</file>